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7.jpeg" ContentType="image/jpeg"/>
  <Override PartName="/ppt/media/image12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75FC8F-F1D0-4A5A-B78D-1F638632B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8EC6D5-78C2-4E4C-9A5A-FC2550C8F9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154B53-8773-49D1-818B-7F416FBB04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6BC269-D43B-49E9-B517-8A799F18C3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221AFC-7415-45F4-A322-AA92F7A3F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753214-EB1E-4B63-8E4D-F9789B774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7312888-78CA-4C9C-996B-9F60B2A45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D1E8687-4F7E-4B25-9304-9E600B00FE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6E51B8-1D90-4B09-AB2E-F3082D14F50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7EDE2B-5ACD-41C5-BDEC-352C8B1235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9D65F9-8495-4463-A3F6-BA8DA4340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20345C-90EC-4818-B8EA-5204C8075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2BA123-03EE-4D52-B43A-860F1BC25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582E8E-9924-4A4E-A7A5-77ED71CC6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7DEAE0-29EF-407A-BF66-CDA7799F6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4514CE-2F2A-4D36-96C4-C5B9DF3C0E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20880" y="74772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1120" y="4722840"/>
            <a:ext cx="54482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57760" y="9441000"/>
            <a:ext cx="29494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F27D31-5843-471D-83F9-B7F7EFD91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D54-2DCD-43D6-BEE6-41B8CAEC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E5A-31F7-44D6-AEBD-31F020A6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436-3813-4E6D-AF0C-F9B6F5D3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EA8-CDD3-4B3D-9171-0986D50C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703-1BEB-4D5F-A282-A38E35CC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EF8-1084-421E-AC83-BFAD4CB5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8DF-B4E7-46CB-9EC1-8CAA5A28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425-D6F6-432F-A8DB-073CD9DA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745-E36C-4962-8639-12856CFF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43E-276E-4E92-ACE7-17A7FDB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664-097E-4451-8C5C-4C3D72FA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C0A-9192-48E7-B409-C2B8868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A47B-ACDD-4C51-AC52-90EB646620EC}" type="slidenum">
              <a:rPr b="0" lang="ru-RU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ДИСК РАСТРОВЫЙ\плакаты\ФИРМЕННЫЙ СТИЛЬ АКАДЕМИИ\баннер для селектора\презентация 3 копия.jpg"/>
          <p:cNvPicPr/>
          <p:nvPr/>
        </p:nvPicPr>
        <p:blipFill>
          <a:blip r:embed="rId1"/>
          <a:stretch/>
        </p:blipFill>
        <p:spPr>
          <a:xfrm>
            <a:off x="11160" y="-3816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Герб Курской области"/>
          <p:cNvPicPr/>
          <p:nvPr/>
        </p:nvPicPr>
        <p:blipFill>
          <a:blip r:embed="rId2"/>
          <a:stretch/>
        </p:blipFill>
        <p:spPr>
          <a:xfrm>
            <a:off x="7236000" y="142920"/>
            <a:ext cx="1723680" cy="177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96800" y="1312920"/>
            <a:ext cx="8207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ТОАЛЬБ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Пожары с гибелью людей, произошедшие на территории Курской области»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1" descr="флаг МЧС4"/>
          <p:cNvPicPr/>
          <p:nvPr/>
        </p:nvPicPr>
        <p:blipFill>
          <a:blip r:embed="rId3"/>
          <a:stretch/>
        </p:blipFill>
        <p:spPr>
          <a:xfrm>
            <a:off x="11160" y="142920"/>
            <a:ext cx="22572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88" descr=""/>
          <p:cNvPicPr/>
          <p:nvPr/>
        </p:nvPicPr>
        <p:blipFill>
          <a:blip r:embed="rId1"/>
          <a:stretch/>
        </p:blipFill>
        <p:spPr>
          <a:xfrm>
            <a:off x="-3240" y="3801960"/>
            <a:ext cx="4527720" cy="3056040"/>
          </a:xfrm>
          <a:prstGeom prst="rect">
            <a:avLst/>
          </a:prstGeom>
          <a:ln w="0">
            <a:noFill/>
          </a:ln>
        </p:spPr>
      </p:pic>
      <p:sp>
        <p:nvSpPr>
          <p:cNvPr id="117" name="Line 7"/>
          <p:cNvSpPr/>
          <p:nvPr/>
        </p:nvSpPr>
        <p:spPr>
          <a:xfrm>
            <a:off x="4524480" y="279360"/>
            <a:ext cx="0" cy="657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 fontScale="92000"/>
          </a:bodyPr>
          <a:p>
            <a:pPr algn="ctr">
              <a:lnSpc>
                <a:spcPts val="1298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07.07.2021- Горшеченский район, н.п. Средние Апочки. Погиб - Гладков С.В. 1976 г.р. Погибший проживал с сожительницей и ее дочерью.  Состоял в «группе риска» как злоупотребляющий спиртными напитками. Причина - неосторожное обращение с ог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240" y="37908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tretch/>
        </p:blipFill>
        <p:spPr>
          <a:xfrm>
            <a:off x="-25560" y="547560"/>
            <a:ext cx="4521240" cy="3230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"/>
          <p:cNvPicPr/>
          <p:nvPr/>
        </p:nvPicPr>
        <p:blipFill>
          <a:blip r:embed="rId3"/>
          <a:stretch/>
        </p:blipFill>
        <p:spPr>
          <a:xfrm>
            <a:off x="4540320" y="3824280"/>
            <a:ext cx="4591080" cy="30574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"/>
          <p:cNvPicPr/>
          <p:nvPr/>
        </p:nvPicPr>
        <p:blipFill>
          <a:blip r:embed="rId4"/>
          <a:stretch/>
        </p:blipFill>
        <p:spPr>
          <a:xfrm>
            <a:off x="4552920" y="512640"/>
            <a:ext cx="45784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85" descr=""/>
          <p:cNvPicPr/>
          <p:nvPr/>
        </p:nvPicPr>
        <p:blipFill>
          <a:blip r:embed="rId1"/>
          <a:stretch/>
        </p:blipFill>
        <p:spPr>
          <a:xfrm>
            <a:off x="4524480" y="3790800"/>
            <a:ext cx="4606920" cy="306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88" descr=""/>
          <p:cNvPicPr/>
          <p:nvPr/>
        </p:nvPicPr>
        <p:blipFill>
          <a:blip r:embed="rId2"/>
          <a:stretch/>
        </p:blipFill>
        <p:spPr>
          <a:xfrm>
            <a:off x="4524480" y="534960"/>
            <a:ext cx="4606920" cy="3255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87" descr=""/>
          <p:cNvPicPr/>
          <p:nvPr/>
        </p:nvPicPr>
        <p:blipFill>
          <a:blip r:embed="rId3"/>
          <a:stretch/>
        </p:blipFill>
        <p:spPr>
          <a:xfrm>
            <a:off x="11160" y="541440"/>
            <a:ext cx="4513320" cy="3249360"/>
          </a:xfrm>
          <a:prstGeom prst="rect">
            <a:avLst/>
          </a:prstGeom>
          <a:ln w="0">
            <a:noFill/>
          </a:ln>
        </p:spPr>
      </p:pic>
      <p:sp>
        <p:nvSpPr>
          <p:cNvPr id="127" name="Line 7"/>
          <p:cNvSpPr/>
          <p:nvPr/>
        </p:nvSpPr>
        <p:spPr>
          <a:xfrm>
            <a:off x="4524480" y="279360"/>
            <a:ext cx="0" cy="657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lnSpc>
                <a:spcPts val="1298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11.06.2021 – Курчатовский район, СНТ. Иванинское. Погиб - Бессонов В.В. 1958 г.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а - неосторожное обращение с огнем при кур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240" y="37908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" descr=""/>
          <p:cNvPicPr/>
          <p:nvPr/>
        </p:nvPicPr>
        <p:blipFill>
          <a:blip r:embed="rId4"/>
          <a:stretch/>
        </p:blipFill>
        <p:spPr>
          <a:xfrm>
            <a:off x="-25560" y="3828960"/>
            <a:ext cx="45342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88" descr="R:\Smena\30-СМЕНЫ\2021\03-март\23\06.ФОТО\КВАРТИРА КУРЧАТОВ\IMG-20210324-WA0012.jpg"/>
          <p:cNvPicPr/>
          <p:nvPr/>
        </p:nvPicPr>
        <p:blipFill>
          <a:blip r:embed="rId1"/>
          <a:stretch/>
        </p:blipFill>
        <p:spPr>
          <a:xfrm>
            <a:off x="4524480" y="3790800"/>
            <a:ext cx="4626000" cy="3078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86" descr="R:\Smena\30-СМЕНЫ\2021\03-март\23\06.ФОТО\КВАРТИРА КУРЧАТОВ\IMG-20210324-WA0007.jpg"/>
          <p:cNvPicPr/>
          <p:nvPr/>
        </p:nvPicPr>
        <p:blipFill>
          <a:blip r:embed="rId2"/>
          <a:stretch/>
        </p:blipFill>
        <p:spPr>
          <a:xfrm>
            <a:off x="4524480" y="539640"/>
            <a:ext cx="4619520" cy="3251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5" descr="R:\Smena\30-СМЕНЫ\2021\03-март\23\06.ФОТО\КВАРТИРА КУРЧАТОВ\IMG-20210324-WA0008.jpg"/>
          <p:cNvPicPr/>
          <p:nvPr/>
        </p:nvPicPr>
        <p:blipFill>
          <a:blip r:embed="rId3"/>
          <a:stretch/>
        </p:blipFill>
        <p:spPr>
          <a:xfrm>
            <a:off x="0" y="528480"/>
            <a:ext cx="4524480" cy="3262320"/>
          </a:xfrm>
          <a:prstGeom prst="rect">
            <a:avLst/>
          </a:prstGeom>
          <a:ln w="0">
            <a:noFill/>
          </a:ln>
        </p:spPr>
      </p:pic>
      <p:sp>
        <p:nvSpPr>
          <p:cNvPr id="135" name="Line 7"/>
          <p:cNvSpPr/>
          <p:nvPr/>
        </p:nvSpPr>
        <p:spPr>
          <a:xfrm>
            <a:off x="4524480" y="279360"/>
            <a:ext cx="0" cy="6589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lnSpc>
                <a:spcPts val="1298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24.03.2021 – г. Курчатов, ул. Садовая, 5. Погиб - Переверзева С.Н. 1966 г.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а - неосторожное обращение с огнем при кур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440" y="37908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4"/>
          <a:stretch/>
        </p:blipFill>
        <p:spPr>
          <a:xfrm>
            <a:off x="-30240" y="3813120"/>
            <a:ext cx="45496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89" descr="R:\Smena\30-СМЕНЫ\2021\03-март\06\06 Фото\Пожар-г. Льгов\IMG-20210307-WA0007.jpg"/>
          <p:cNvPicPr/>
          <p:nvPr/>
        </p:nvPicPr>
        <p:blipFill>
          <a:blip r:embed="rId1"/>
          <a:stretch/>
        </p:blipFill>
        <p:spPr>
          <a:xfrm>
            <a:off x="4538520" y="3811680"/>
            <a:ext cx="4611960" cy="30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88" descr="R:\Smena\30-СМЕНЫ\2021\03-март\06\06 Фото\Пожар-г. Льгов\IMG-20210307-WA0004.jpg"/>
          <p:cNvPicPr/>
          <p:nvPr/>
        </p:nvPicPr>
        <p:blipFill>
          <a:blip r:embed="rId2"/>
          <a:stretch/>
        </p:blipFill>
        <p:spPr>
          <a:xfrm>
            <a:off x="0" y="528480"/>
            <a:ext cx="4495680" cy="3232440"/>
          </a:xfrm>
          <a:prstGeom prst="rect">
            <a:avLst/>
          </a:prstGeom>
          <a:ln w="0">
            <a:noFill/>
          </a:ln>
        </p:spPr>
      </p:pic>
      <p:sp>
        <p:nvSpPr>
          <p:cNvPr id="142" name="Line 7"/>
          <p:cNvSpPr/>
          <p:nvPr/>
        </p:nvSpPr>
        <p:spPr>
          <a:xfrm>
            <a:off x="4524480" y="279360"/>
            <a:ext cx="0" cy="6589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 fontScale="92000"/>
          </a:bodyPr>
          <a:p>
            <a:pPr algn="ctr">
              <a:lnSpc>
                <a:spcPts val="1298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07.03.2021 - г. Льгов, ул. Киевская. погибла Иванова Э.Н. 1940 г.р., пострадал Иванов  Н.В.1967 г.р.(отравление окисью углерода). состояли в «группе риска» как злоупотребляющий спиртными напитками. Причина - неосторожное обращение с огнем при кур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1440" y="37908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3"/>
          <a:stretch/>
        </p:blipFill>
        <p:spPr>
          <a:xfrm>
            <a:off x="4573440" y="549360"/>
            <a:ext cx="4606920" cy="32227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4"/>
          <a:stretch/>
        </p:blipFill>
        <p:spPr>
          <a:xfrm>
            <a:off x="0" y="3821040"/>
            <a:ext cx="44751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87" descr="R:\Smena\30-СМЕНЫ\2021\01-январь\24\06.ФОТО\глушково\IMG-20210125-WA0017.jpg"/>
          <p:cNvPicPr/>
          <p:nvPr/>
        </p:nvPicPr>
        <p:blipFill>
          <a:blip r:embed="rId1"/>
          <a:stretch/>
        </p:blipFill>
        <p:spPr>
          <a:xfrm>
            <a:off x="4572000" y="598320"/>
            <a:ext cx="4572000" cy="3210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86" descr="R:\Smena\30-СМЕНЫ\2021\01-январь\24\06.ФОТО\глушково\IMG-20210125-WA0014.jpg"/>
          <p:cNvPicPr/>
          <p:nvPr/>
        </p:nvPicPr>
        <p:blipFill>
          <a:blip r:embed="rId2"/>
          <a:stretch/>
        </p:blipFill>
        <p:spPr>
          <a:xfrm>
            <a:off x="-9360" y="598320"/>
            <a:ext cx="457020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>
            <a:off x="0" y="38084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572000" y="301680"/>
            <a:ext cx="0" cy="6556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1"/>
          <p:cNvSpPr/>
          <p:nvPr/>
        </p:nvSpPr>
        <p:spPr>
          <a:xfrm>
            <a:off x="-9360" y="0"/>
            <a:ext cx="9146880" cy="57636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2"/>
          <p:cNvSpPr/>
          <p:nvPr/>
        </p:nvSpPr>
        <p:spPr>
          <a:xfrm>
            <a:off x="-9360" y="0"/>
            <a:ext cx="9142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rmAutofit/>
          </a:bodyPr>
          <a:p>
            <a:pPr algn="ctr">
              <a:lnSpc>
                <a:spcPts val="1298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25.01.2021 – Глушковский район, с. Кекино. Погиб - Фетисова Н.А. 1937 г.р., относящегося к категории граждан «группы риска», как одинокий престарелый. Причина - неосторожное обращение с огнем при кур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4572000" y="619200"/>
            <a:ext cx="0" cy="6238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" descr=""/>
          <p:cNvPicPr/>
          <p:nvPr/>
        </p:nvPicPr>
        <p:blipFill>
          <a:blip r:embed="rId3"/>
          <a:stretch/>
        </p:blipFill>
        <p:spPr>
          <a:xfrm>
            <a:off x="-1440" y="3838680"/>
            <a:ext cx="4562280" cy="30398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"/>
          <p:cNvPicPr/>
          <p:nvPr/>
        </p:nvPicPr>
        <p:blipFill>
          <a:blip r:embed="rId4"/>
          <a:stretch/>
        </p:blipFill>
        <p:spPr>
          <a:xfrm>
            <a:off x="4613400" y="3838680"/>
            <a:ext cx="4530600" cy="30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88" descr="R:\Smena\30-СМЕНЫ\2021\01-январь\24\06.ФОТО\советский\IMG-20210124-WA0021.jpg"/>
          <p:cNvPicPr/>
          <p:nvPr/>
        </p:nvPicPr>
        <p:blipFill>
          <a:blip r:embed="rId1"/>
          <a:stretch/>
        </p:blipFill>
        <p:spPr>
          <a:xfrm>
            <a:off x="-9360" y="3808440"/>
            <a:ext cx="4570200" cy="304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86" descr="R:\Smena\30-СМЕНЫ\2021\01-январь\24\06.ФОТО\советский\IMG-20210124-WA0015.jpg"/>
          <p:cNvPicPr/>
          <p:nvPr/>
        </p:nvPicPr>
        <p:blipFill>
          <a:blip r:embed="rId2"/>
          <a:stretch/>
        </p:blipFill>
        <p:spPr>
          <a:xfrm>
            <a:off x="4572000" y="576360"/>
            <a:ext cx="4560840" cy="3232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87" descr="R:\Smena\30-СМЕНЫ\2021\01-январь\24\06.ФОТО\советский\IMG-20210124-WA0016.jpg"/>
          <p:cNvPicPr/>
          <p:nvPr/>
        </p:nvPicPr>
        <p:blipFill>
          <a:blip r:embed="rId3"/>
          <a:stretch/>
        </p:blipFill>
        <p:spPr>
          <a:xfrm>
            <a:off x="0" y="576360"/>
            <a:ext cx="4560840" cy="323208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0" y="380844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4572000" y="301680"/>
            <a:ext cx="0" cy="6556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1"/>
          <p:cNvSpPr/>
          <p:nvPr/>
        </p:nvSpPr>
        <p:spPr>
          <a:xfrm>
            <a:off x="-9360" y="0"/>
            <a:ext cx="9146880" cy="57636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-9360" y="0"/>
            <a:ext cx="9142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rmAutofit/>
          </a:bodyPr>
          <a:p>
            <a:pPr algn="ctr">
              <a:lnSpc>
                <a:spcPts val="1298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24.01.2021 - Советский район, н.п. Нижнее Гурово. Погиб хозяин домовладения Зайцев Н.Д. 1965 г.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а - неосторожное обращение с огнем при кур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 flipV="1">
            <a:off x="4572000" y="619200"/>
            <a:ext cx="0" cy="6238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" descr=""/>
          <p:cNvPicPr/>
          <p:nvPr/>
        </p:nvPicPr>
        <p:blipFill>
          <a:blip r:embed="rId4"/>
          <a:stretch/>
        </p:blipFill>
        <p:spPr>
          <a:xfrm>
            <a:off x="4608360" y="3849840"/>
            <a:ext cx="4545000" cy="30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ДИСК РАСТРОВЫЙ\плакаты\ФИРМЕННЫЙ СТИЛЬ АКАДЕМИИ\баннер для селектора\презентация 3 копия.jpg"/>
          <p:cNvPicPr/>
          <p:nvPr/>
        </p:nvPicPr>
        <p:blipFill>
          <a:blip r:embed="rId1"/>
          <a:stretch/>
        </p:blipFill>
        <p:spPr>
          <a:xfrm>
            <a:off x="11160" y="-3816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3" descr="Герб Курской области"/>
          <p:cNvPicPr/>
          <p:nvPr/>
        </p:nvPicPr>
        <p:blipFill>
          <a:blip r:embed="rId2"/>
          <a:stretch/>
        </p:blipFill>
        <p:spPr>
          <a:xfrm>
            <a:off x="7236000" y="142920"/>
            <a:ext cx="1723680" cy="17733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496800" y="1312920"/>
            <a:ext cx="82076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ТОАЛЬБ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Пожары с гибелью людей, произошедшие на территории Курской области»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1" descr="флаг МЧС4"/>
          <p:cNvPicPr/>
          <p:nvPr/>
        </p:nvPicPr>
        <p:blipFill>
          <a:blip r:embed="rId3"/>
          <a:stretch/>
        </p:blipFill>
        <p:spPr>
          <a:xfrm>
            <a:off x="11160" y="142920"/>
            <a:ext cx="225720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"/>
          <p:cNvPicPr/>
          <p:nvPr/>
        </p:nvPicPr>
        <p:blipFill>
          <a:blip r:embed="rId1"/>
          <a:stretch/>
        </p:blipFill>
        <p:spPr>
          <a:xfrm>
            <a:off x="0" y="528480"/>
            <a:ext cx="4695840" cy="329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"/>
          <p:cNvPicPr/>
          <p:nvPr/>
        </p:nvPicPr>
        <p:blipFill>
          <a:blip r:embed="rId2"/>
          <a:stretch/>
        </p:blipFill>
        <p:spPr>
          <a:xfrm>
            <a:off x="4788000" y="527040"/>
            <a:ext cx="4362480" cy="3297240"/>
          </a:xfrm>
          <a:prstGeom prst="rect">
            <a:avLst/>
          </a:prstGeom>
          <a:ln w="0">
            <a:noFill/>
          </a:ln>
        </p:spPr>
      </p:pic>
      <p:sp>
        <p:nvSpPr>
          <p:cNvPr id="54" name="Line 7"/>
          <p:cNvSpPr/>
          <p:nvPr/>
        </p:nvSpPr>
        <p:spPr>
          <a:xfrm>
            <a:off x="4681440" y="290520"/>
            <a:ext cx="0" cy="657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23.01.2022 – Курский район, д. Михайлово , д.64,  погиб - Сейман  Н.А. 30.11.2000 г.р. Проживавший с сожительницей и двумя несовершеннолетними детьми. Причина – детская ша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0" y="38242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3"/>
          <a:stretch/>
        </p:blipFill>
        <p:spPr>
          <a:xfrm>
            <a:off x="4788000" y="3914640"/>
            <a:ext cx="4356000" cy="2943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4"/>
          <a:stretch/>
        </p:blipFill>
        <p:spPr>
          <a:xfrm>
            <a:off x="0" y="3914640"/>
            <a:ext cx="46674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6" descr=""/>
          <p:cNvPicPr/>
          <p:nvPr/>
        </p:nvPicPr>
        <p:blipFill>
          <a:blip r:embed="rId1"/>
          <a:stretch/>
        </p:blipFill>
        <p:spPr>
          <a:xfrm>
            <a:off x="4681440" y="538200"/>
            <a:ext cx="446256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2"/>
          <a:stretch/>
        </p:blipFill>
        <p:spPr>
          <a:xfrm>
            <a:off x="3240" y="3824280"/>
            <a:ext cx="4678200" cy="30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3"/>
          <a:stretch/>
        </p:blipFill>
        <p:spPr>
          <a:xfrm>
            <a:off x="0" y="538200"/>
            <a:ext cx="4681440" cy="3267000"/>
          </a:xfrm>
          <a:prstGeom prst="rect">
            <a:avLst/>
          </a:prstGeom>
          <a:ln w="0">
            <a:noFill/>
          </a:ln>
        </p:spPr>
      </p:pic>
      <p:sp>
        <p:nvSpPr>
          <p:cNvPr id="63" name="Line 7"/>
          <p:cNvSpPr/>
          <p:nvPr/>
        </p:nvSpPr>
        <p:spPr>
          <a:xfrm>
            <a:off x="4681440" y="290520"/>
            <a:ext cx="0" cy="657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16.01.2022 – г. Железногорск, ул. Гагарина, д. 7/2, кв. 22. Погиб Бойко А.В. 1976 г.р., Спасен Ненашев А.В. 1973 г.р. Погибший проживал один, спасенный находился в гостях. Причина - неосторожное обращение с ог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0" y="38242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4"/>
          <a:stretch/>
        </p:blipFill>
        <p:spPr>
          <a:xfrm>
            <a:off x="4788000" y="3843360"/>
            <a:ext cx="43560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1" descr=""/>
          <p:cNvPicPr/>
          <p:nvPr/>
        </p:nvPicPr>
        <p:blipFill>
          <a:blip r:embed="rId1"/>
          <a:stretch/>
        </p:blipFill>
        <p:spPr>
          <a:xfrm>
            <a:off x="4681440" y="512640"/>
            <a:ext cx="4469040" cy="3311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"/>
          <p:cNvPicPr/>
          <p:nvPr/>
        </p:nvPicPr>
        <p:blipFill>
          <a:blip r:embed="rId2"/>
          <a:stretch/>
        </p:blipFill>
        <p:spPr>
          <a:xfrm>
            <a:off x="4681440" y="3832200"/>
            <a:ext cx="4469040" cy="3052800"/>
          </a:xfrm>
          <a:prstGeom prst="rect">
            <a:avLst/>
          </a:prstGeom>
          <a:ln w="0">
            <a:noFill/>
          </a:ln>
        </p:spPr>
      </p:pic>
      <p:sp>
        <p:nvSpPr>
          <p:cNvPr id="70" name="Line 7"/>
          <p:cNvSpPr/>
          <p:nvPr/>
        </p:nvSpPr>
        <p:spPr>
          <a:xfrm>
            <a:off x="4681440" y="290520"/>
            <a:ext cx="0" cy="657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 fontScale="96000"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на 07.01.2022 – Обоянский район, н.п. Кулига, ул. Поповка, д. 20 кв. 2. Погиб Болотов В.Л. 1976 г.р., проживал один, судимый, не работал, злоупотреблял алкоголем. Причина - неосторожное обращение с огнем при кур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0" y="38242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" descr=""/>
          <p:cNvPicPr/>
          <p:nvPr/>
        </p:nvPicPr>
        <p:blipFill>
          <a:blip r:embed="rId3"/>
          <a:stretch/>
        </p:blipFill>
        <p:spPr>
          <a:xfrm>
            <a:off x="-33480" y="534960"/>
            <a:ext cx="4708800" cy="3263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4"/>
          <a:stretch/>
        </p:blipFill>
        <p:spPr>
          <a:xfrm>
            <a:off x="17640" y="3849840"/>
            <a:ext cx="46576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9" descr=""/>
          <p:cNvPicPr/>
          <p:nvPr/>
        </p:nvPicPr>
        <p:blipFill>
          <a:blip r:embed="rId1"/>
          <a:stretch/>
        </p:blipFill>
        <p:spPr>
          <a:xfrm>
            <a:off x="3240" y="528480"/>
            <a:ext cx="4660920" cy="3295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356000" cy="3274920"/>
          </a:xfrm>
          <a:prstGeom prst="rect">
            <a:avLst/>
          </a:prstGeom>
          <a:ln w="0">
            <a:noFill/>
          </a:ln>
        </p:spPr>
      </p:pic>
      <p:sp>
        <p:nvSpPr>
          <p:cNvPr id="78" name="Line 7"/>
          <p:cNvSpPr/>
          <p:nvPr/>
        </p:nvSpPr>
        <p:spPr>
          <a:xfrm>
            <a:off x="4681440" y="290520"/>
            <a:ext cx="0" cy="657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 fontScale="93000"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07.01.2022 – Медвенский район, село Любицкое, д. 25. Погиб – Цуканов В.В. 26.08.1973 г.р. Проживал один, входил в группу риска как злоупотребляющий спиртными напитками, курил. Причина - неосторожное обращение с огнем при кур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0" y="38242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" descr=""/>
          <p:cNvPicPr/>
          <p:nvPr/>
        </p:nvPicPr>
        <p:blipFill>
          <a:blip r:embed="rId3"/>
          <a:stretch/>
        </p:blipFill>
        <p:spPr>
          <a:xfrm>
            <a:off x="4788000" y="3844800"/>
            <a:ext cx="4340160" cy="2995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"/>
          <p:cNvPicPr/>
          <p:nvPr/>
        </p:nvPicPr>
        <p:blipFill>
          <a:blip r:embed="rId4"/>
          <a:stretch/>
        </p:blipFill>
        <p:spPr>
          <a:xfrm>
            <a:off x="0" y="3844800"/>
            <a:ext cx="46641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1" descr=""/>
          <p:cNvPicPr/>
          <p:nvPr/>
        </p:nvPicPr>
        <p:blipFill>
          <a:blip r:embed="rId1"/>
          <a:stretch/>
        </p:blipFill>
        <p:spPr>
          <a:xfrm>
            <a:off x="4788000" y="528480"/>
            <a:ext cx="4348080" cy="329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"/>
          <p:cNvPicPr/>
          <p:nvPr/>
        </p:nvPicPr>
        <p:blipFill>
          <a:blip r:embed="rId2"/>
          <a:stretch/>
        </p:blipFill>
        <p:spPr>
          <a:xfrm>
            <a:off x="0" y="517680"/>
            <a:ext cx="4681440" cy="3306600"/>
          </a:xfrm>
          <a:prstGeom prst="rect">
            <a:avLst/>
          </a:prstGeom>
          <a:ln w="0">
            <a:noFill/>
          </a:ln>
        </p:spPr>
      </p:pic>
      <p:sp>
        <p:nvSpPr>
          <p:cNvPr id="86" name="Line 7"/>
          <p:cNvSpPr/>
          <p:nvPr/>
        </p:nvSpPr>
        <p:spPr>
          <a:xfrm>
            <a:off x="4681440" y="290520"/>
            <a:ext cx="0" cy="657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 fontScale="92000"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01.01.2022 – Большесолдатский  район, н.п.  Шелеповка, погибла Малыхиной Т. А. 1952 г.р., маломобильная (инвалид), проживала с сыном и внучкой, которые злоупотребляли алкоголем. Причина – неисправ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чного отоп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0" y="382428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3"/>
          <a:stretch/>
        </p:blipFill>
        <p:spPr>
          <a:xfrm>
            <a:off x="4788000" y="3933720"/>
            <a:ext cx="4348080" cy="29242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4"/>
          <a:stretch/>
        </p:blipFill>
        <p:spPr>
          <a:xfrm>
            <a:off x="0" y="3933720"/>
            <a:ext cx="46674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0" descr="R:\Smena\30-СМЕНЫ\2021\11-ноябрь\25\06.ФОТО\пожар Касторенский район\IMG-20211125-WA0064.jpg"/>
          <p:cNvPicPr/>
          <p:nvPr/>
        </p:nvPicPr>
        <p:blipFill>
          <a:blip r:embed="rId1"/>
          <a:stretch/>
        </p:blipFill>
        <p:spPr>
          <a:xfrm>
            <a:off x="4681440" y="3790800"/>
            <a:ext cx="4462560" cy="306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R:\Smena\30-СМЕНЫ\2021\11-ноябрь\25\06.ФОТО\пожар Касторенский район\IMG-20211125-WA0068.jpg"/>
          <p:cNvPicPr/>
          <p:nvPr/>
        </p:nvPicPr>
        <p:blipFill>
          <a:blip r:embed="rId2"/>
          <a:stretch/>
        </p:blipFill>
        <p:spPr>
          <a:xfrm>
            <a:off x="4681440" y="527040"/>
            <a:ext cx="4462560" cy="326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5" descr=""/>
          <p:cNvPicPr/>
          <p:nvPr/>
        </p:nvPicPr>
        <p:blipFill>
          <a:blip r:embed="rId3"/>
          <a:stretch/>
        </p:blipFill>
        <p:spPr>
          <a:xfrm>
            <a:off x="3240" y="3790800"/>
            <a:ext cx="4678200" cy="306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" descr="R:\Smena\30-СМЕНЫ\2021\11-ноябрь\25\06.ФОТО\пожар Касторенский район\IMG-20211125-WA0066.jpg"/>
          <p:cNvPicPr/>
          <p:nvPr/>
        </p:nvPicPr>
        <p:blipFill>
          <a:blip r:embed="rId4"/>
          <a:stretch/>
        </p:blipFill>
        <p:spPr>
          <a:xfrm>
            <a:off x="3240" y="527040"/>
            <a:ext cx="4678200" cy="3263760"/>
          </a:xfrm>
          <a:prstGeom prst="rect">
            <a:avLst/>
          </a:prstGeom>
          <a:ln w="0">
            <a:noFill/>
          </a:ln>
        </p:spPr>
      </p:pic>
      <p:sp>
        <p:nvSpPr>
          <p:cNvPr id="96" name="Line 7"/>
          <p:cNvSpPr/>
          <p:nvPr/>
        </p:nvSpPr>
        <p:spPr>
          <a:xfrm>
            <a:off x="4681440" y="290520"/>
            <a:ext cx="0" cy="657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25.11.2021 – Касторенский район, н.п. Новое Касторное, погиб Зубахин А.А. 1982 г.р., проживал один. Причина - неосторожное обращение с огн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240" y="37908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2" descr=""/>
          <p:cNvPicPr/>
          <p:nvPr/>
        </p:nvPicPr>
        <p:blipFill>
          <a:blip r:embed="rId1"/>
          <a:stretch/>
        </p:blipFill>
        <p:spPr>
          <a:xfrm>
            <a:off x="0" y="527040"/>
            <a:ext cx="4681440" cy="3263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/>
          <p:cNvPicPr/>
          <p:nvPr/>
        </p:nvPicPr>
        <p:blipFill>
          <a:blip r:embed="rId2"/>
          <a:stretch/>
        </p:blipFill>
        <p:spPr>
          <a:xfrm>
            <a:off x="4681440" y="528480"/>
            <a:ext cx="4462560" cy="32623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>
            <a:off x="4681440" y="264960"/>
            <a:ext cx="0" cy="657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lnSpc>
                <a:spcPts val="1298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12.10.2021 – г. Курск, ул. Пучковка, д. 110. Погиб Ильютович А.В. 1964 г.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298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а - неосторожное обращение с огнем при кур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3240" y="37908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3"/>
          <a:stretch/>
        </p:blipFill>
        <p:spPr>
          <a:xfrm>
            <a:off x="0" y="3807000"/>
            <a:ext cx="4656240" cy="30366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2" descr=""/>
          <p:cNvPicPr/>
          <p:nvPr/>
        </p:nvPicPr>
        <p:blipFill>
          <a:blip r:embed="rId4"/>
          <a:stretch/>
        </p:blipFill>
        <p:spPr>
          <a:xfrm>
            <a:off x="4707000" y="3822840"/>
            <a:ext cx="44370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3" descr=""/>
          <p:cNvPicPr/>
          <p:nvPr/>
        </p:nvPicPr>
        <p:blipFill>
          <a:blip r:embed="rId1"/>
          <a:stretch/>
        </p:blipFill>
        <p:spPr>
          <a:xfrm>
            <a:off x="4681440" y="3790800"/>
            <a:ext cx="4465800" cy="306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"/>
          <p:cNvPicPr/>
          <p:nvPr/>
        </p:nvPicPr>
        <p:blipFill>
          <a:blip r:embed="rId2"/>
          <a:stretch/>
        </p:blipFill>
        <p:spPr>
          <a:xfrm>
            <a:off x="4681440" y="536400"/>
            <a:ext cx="4462560" cy="325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"/>
          <p:cNvPicPr/>
          <p:nvPr/>
        </p:nvPicPr>
        <p:blipFill>
          <a:blip r:embed="rId3"/>
          <a:stretch/>
        </p:blipFill>
        <p:spPr>
          <a:xfrm>
            <a:off x="0" y="3790800"/>
            <a:ext cx="4681440" cy="306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"/>
          <p:cNvPicPr/>
          <p:nvPr/>
        </p:nvPicPr>
        <p:blipFill>
          <a:blip r:embed="rId4"/>
          <a:stretch/>
        </p:blipFill>
        <p:spPr>
          <a:xfrm>
            <a:off x="0" y="536400"/>
            <a:ext cx="4681440" cy="325440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>
            <a:off x="4681440" y="290520"/>
            <a:ext cx="0" cy="6578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41"/>
          <p:cNvSpPr/>
          <p:nvPr/>
        </p:nvSpPr>
        <p:spPr>
          <a:xfrm>
            <a:off x="-25560" y="3240"/>
            <a:ext cx="9176040" cy="52524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/>
          </a:bodyPr>
          <a:p>
            <a:pPr algn="ctr">
              <a:tabLst>
                <a:tab algn="l" pos="0"/>
                <a:tab algn="l" pos="671400"/>
                <a:tab algn="l" pos="1343160"/>
                <a:tab algn="l" pos="2014560"/>
                <a:tab algn="l" pos="2685960"/>
                <a:tab algn="l" pos="3357720"/>
                <a:tab algn="l" pos="4029120"/>
                <a:tab algn="l" pos="4700520"/>
                <a:tab algn="l" pos="5372280"/>
                <a:tab algn="l" pos="6043680"/>
                <a:tab algn="l" pos="6715080"/>
                <a:tab algn="l" pos="7386480"/>
                <a:tab algn="l" pos="8058240"/>
                <a:tab algn="l" pos="8729640"/>
                <a:tab algn="l" pos="9401040"/>
                <a:tab algn="l" pos="1007280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48"/>
          <p:cNvSpPr/>
          <p:nvPr/>
        </p:nvSpPr>
        <p:spPr>
          <a:xfrm>
            <a:off x="3240" y="3240"/>
            <a:ext cx="9147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ctr">
            <a:normAutofit fontScale="94000"/>
          </a:bodyPr>
          <a:p>
            <a:pPr algn="ctr">
              <a:lnSpc>
                <a:spcPts val="1298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ар 10.09.2021 – Касторенский район, н.п. Раздолье. Погибла  Суровцева Л.Е 1976  г.р. Погибшая находилась в гостях, на момент пожара собственник домовладения находился на работе. Причина - неосторожное обращение с огнем при кур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240" y="37908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2:18:53Z</dcterms:created>
  <dc:creator>Zver</dc:creator>
  <dc:description/>
  <dc:language>en-US</dc:language>
  <cp:lastModifiedBy>KONSTANTINE</cp:lastModifiedBy>
  <cp:lastPrinted>2020-02-10T02:26:03Z</cp:lastPrinted>
  <dcterms:modified xsi:type="dcterms:W3CDTF">2022-01-31T13:06:20Z</dcterms:modified>
  <cp:revision>7396</cp:revision>
  <dc:subject/>
  <dc:title>Слайд 1</dc:title>
</cp:coreProperties>
</file>